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98A0B-B897-448D-BA93-586A22AD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918CB-2C7D-423A-AC53-2E3BA429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8D07D-3C13-4AE3-9C53-302A8E55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046A-E3A8-4323-AD51-8ED72384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CA79-C8D0-4297-B774-124A8CA4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72C4-7658-4540-AE24-CC071B32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0907-1741-4D65-9513-18B466C5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C82B-988C-4D4F-8873-07614806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0DE9-BA41-41D9-885F-B3B9FD07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FF76-17F1-4FA7-8790-803A1B77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B05E-09B0-4C0B-ABA3-6F4416D7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85D94-1BC5-48B2-A509-C68FFC4E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CA4B-2092-4D44-B370-2D2433BC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E965-C976-4D61-8F91-8B6ED8FD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9812-772B-43DF-A9D1-2D14D539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8ED3-14A1-4B01-B5E2-20079CA7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8282-2DA0-4B4E-9F12-D32CE685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8CDF3-9B76-48E1-9CAD-3225AE40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B3A4D-D05A-4B57-80F4-361802B9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79771-5D6B-43E5-9ABD-691D6B6A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8E843-DB84-4F12-923A-43371EF3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CCF73-43C4-4818-85BF-9DFB0BFE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832B-3F07-4450-BDA4-4560ED9D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8118C-7D6F-4377-8E5B-F79F0CD3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1A6C7-5DA3-408A-955D-465E154F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D93AE-3D78-4B22-A45E-F62CDE75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BE21-458E-4ADC-B9F4-15B7B4DA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0F6C0-84F3-4549-96FE-FF7315CD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74E98-8032-400A-82F0-7495E1CE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558D6-1E72-460E-A08C-21FBD388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9726-625B-4158-A6B9-E63D410B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1CEF-EC71-47FE-9AA4-F1B58C78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31FF-7D63-4A01-90E1-607539C0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08C9-39D1-4BC1-8EF9-C531F406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14CF2-8FFB-4F83-AD95-F6F00478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28CBA-CB91-47AE-A26A-9EF9E7AE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5120-C716-43E7-A255-D80E01F220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95F0-858F-43F2-A559-A4DD34DC19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A7AE-5E0D-4569-8335-D754B3B03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aySPM6Win0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946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So how do you get students to follow the rules?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5341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Don’t do </a:t>
            </a:r>
            <a:r>
              <a:rPr b="1" lang="en-US" sz="66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this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! </a:t>
            </a:r>
            <a:br>
              <a:rPr sz="66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(unless you want to lose your job)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Safety in the Classroom</a:t>
            </a:r>
            <a:endParaRPr b="1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Teachers are responsible for classroom safety.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666880"/>
            <a:ext cx="8686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All of it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038480"/>
            <a:ext cx="8382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Alway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First Line of Action: Avoiding Problems</a:t>
            </a:r>
            <a:br>
              <a:rPr sz="72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-- Proactive vs. Reactive --</a:t>
            </a:r>
            <a:endParaRPr b="1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Where do you start?</a:t>
            </a:r>
            <a:endParaRPr b="1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64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3713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sson planning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spcAft>
                <a:spcPts val="3713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lassroom rules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ypical Laboratory Safety List </a:t>
            </a:r>
            <a:endParaRPr b="1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Do: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Become familiar with the experiment before coming to the laboratory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Follow all laboratory instructions carefully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Know all emergency and fire procedure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Ask for clarification on any laboratory procedures that are not understood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Wear safety glasses during exercises with glassware, heat, or chemical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Wear laboratory aprons or coats when instructed to do so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Wear protective gloves when instructed to do so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Assume all chemicals are toxic and corrosive and act accordingly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Read the labels on all chemical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Stopper or cap all reagent bottles when not in use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Keep your work area neat, clean, organized, and clear of clutter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Know the location of emergency equipment.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Exercise great caution whenever using heat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Keep hair and loose clothing restricted and well away from flame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Turn off the gas source when a Bunsen burner is not in use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Use proper ventilation and hoods when instructed to do so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Handle hot glassware with appropriate clamps or tong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Use extra caution when working with sharp object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Ask for instructor assistance in cleaning up broken glass or chemical spill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Discard sharp items in a “sharps container.”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Discard cracked or broken glass in a “broken glass container.”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Report all accidents to your instructor immediately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Report to your instructor any condition that seems unsafe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Keep all laboratory exits clear of debri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Put away all items no longer in use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Use special care when carrying heavy and expensive equipment.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Seek first aid assistance for all cuts or other minor injurie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Always add acid slowly to water. Never add water to acid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Notify your instructor of any symptoms of illness or allergic reactions.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Place culture materials in biohazard bags as directed by your instructor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Clean your lab table and return all cleaned equipment to its proper place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Turn off all gas nozzles and water faucets when leaving the laboratory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Clean your work area and wash hands before leaving the laboratory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Do NOT: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Begin laboratory work until instructed to do so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Do anything in the laboratory that is not understood or that you feel is dangerou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Engage in any horseplay in the laboratory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Perform unauthorized experiment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Operate any equipment until you have been instructed in its proper use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Work in isolation—a second person should always be nearby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Remove any materials from the laboratory unless instructed to do so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Touch your face when working with chemicals or biological culture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Let potential hazards make you afraid to participate in laboratory activitie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Leave a Bunsen burner or other flame source unattended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Light a flame source near flammable material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Move a lit Bunsen burner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Taste or ingest any chemicals or plant material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Handle or consume food or drink in the laboratory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Pipet anything by mouth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Put chemicals in a sink or in the trash unless instructed to do so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Pour chemicals back into dispensing container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Leave a test tube stopper in place when heating test tube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Drink from laboratory glassware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be familiar with and follow those ru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ink-Pair-Share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What would you choose as the three most important safety rules in your classroom? </a:t>
            </a:r>
            <a:endParaRPr b="1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0"/>
            <a:ext cx="4343400" cy="4419720"/>
            <a:chOff x="0" y="0"/>
            <a:chExt cx="4343400" cy="441972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26708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0" y="0"/>
              <a:ext cx="4343400" cy="441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343400" y="1905120"/>
            <a:ext cx="4800600" cy="4952880"/>
            <a:chOff x="4343400" y="1905120"/>
            <a:chExt cx="4800600" cy="4952880"/>
          </a:xfrm>
        </p:grpSpPr>
        <p:sp>
          <p:nvSpPr>
            <p:cNvPr id="159" name=""/>
            <p:cNvSpPr/>
            <p:nvPr/>
          </p:nvSpPr>
          <p:spPr>
            <a:xfrm>
              <a:off x="4343400" y="1905120"/>
              <a:ext cx="4800600" cy="4952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4498920" y="1981080"/>
              <a:ext cx="4645080" cy="487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>
            <a:off x="6478920" y="6094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28:20Z</dcterms:created>
  <dc:creator>Cynthia J. Moore</dc:creator>
  <dc:description/>
  <dc:language>en-US</dc:language>
  <cp:lastModifiedBy>Cynthia Moore</cp:lastModifiedBy>
  <dcterms:modified xsi:type="dcterms:W3CDTF">2011-02-16T16:07:17Z</dcterms:modified>
  <cp:revision>32</cp:revision>
  <dc:subject/>
  <dc:title>Safety in the Classroom</dc:title>
</cp:coreProperties>
</file>